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ver-bl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320" y="47242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d compare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LANCE SHEET PREP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403848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236232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346716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297180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97760" y="405612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88620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2320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685960"/>
            <a:ext cx="283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the asset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337176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the liabilitie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40384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the owner’s equity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5372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sing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573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095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4191120"/>
            <a:ext cx="228600" cy="22860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2, page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133720" y="765000"/>
            <a:ext cx="6914880" cy="4232520"/>
            <a:chOff x="2133720" y="765000"/>
            <a:chExt cx="6914880" cy="4232520"/>
          </a:xfrm>
        </p:grpSpPr>
        <p:pic>
          <p:nvPicPr>
            <p:cNvPr id="59" name="Ch02-02" descr=""/>
            <p:cNvPicPr/>
            <p:nvPr/>
          </p:nvPicPr>
          <p:blipFill>
            <a:blip r:embed="rId1"/>
            <a:srcRect l="0" t="13382" r="0" b="0"/>
            <a:stretch/>
          </p:blipFill>
          <p:spPr>
            <a:xfrm>
              <a:off x="2133720" y="765000"/>
              <a:ext cx="6914880" cy="42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495680" y="182880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Mary Colleen McLaughlin</cp:lastModifiedBy>
  <cp:lastPrinted>1999-03-22T16:48:55Z</cp:lastPrinted>
  <dcterms:modified xsi:type="dcterms:W3CDTF">1999-04-20T04:14:35Z</dcterms:modified>
  <cp:revision>9</cp:revision>
  <dc:subject/>
  <dc:title>THE ACCOUNTING EQUATION</dc:title>
</cp:coreProperties>
</file>